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2.jpeg" ContentType="image/jpeg"/>
  <Override PartName="/ppt/media/image14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D73A-1F78-471F-89B2-B6C3E9E77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7298-FE24-4A04-91A9-B641641E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9C2C-E56F-4CC2-BA56-80FD82C0D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656F-2898-413E-AE77-4B5EF7FBC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924E-A38B-4088-A493-1DA342D46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F2505-E687-489C-AD66-5DCE00F7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52BE8-EBFF-414B-9B6C-62E8FFAE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437A-ADB1-490E-89EB-28941B80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454F-C011-4D32-B000-957758C6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0F89-04D6-4C48-83B2-CE7259EE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48E2B-2FA0-43F6-9591-9FDCBA8E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D0E7-F15E-45BA-8AE6-F7BE5795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757A-7F18-438A-BC67-C27CEDC0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2512B-BFE4-42EA-97E3-A34FBBBF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4155-AAD2-40D0-9B78-33D7F819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5368-2667-4B10-962E-3893A719F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E392-16DA-4C99-B5E5-04EFAA0F1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4C37-6300-44D3-B21A-FD8CC159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2099-8557-450E-821C-87E2B390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9E58-E11E-4A75-B99C-8C77766E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613D-0FD3-4F86-A0C9-DAA4BE4C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207C-98EB-46C5-8945-ACCC061B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A801-68EB-4D4B-B329-DF5E1FDB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38B7-6113-48CC-8E8F-B950FE21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863E-3F00-4C99-9F70-44D72E32C6E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BA25-0A4D-4C4F-950E-81487C9E3F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2164-A206-4759-A200-75A1A2E8E19D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DB36-D048-42FE-B88C-020A9D00BA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veskisilla.ee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8920" y="227628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cbcbcb"/>
                </a:solidFill>
                <a:latin typeface="Tahoma"/>
              </a:rPr>
              <a:t>European Paramotor Championships 2013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47640" y="549360"/>
            <a:ext cx="2340000" cy="1439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959280" y="69048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Estonia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Aerospor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Feder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44120" y="5191200"/>
            <a:ext cx="7227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t-EE" sz="2400" spc="-1" strike="noStrike">
                <a:solidFill>
                  <a:srgbClr val="000000"/>
                </a:solidFill>
                <a:latin typeface="Tahoma"/>
              </a:rPr>
              <a:t>ORGANIZ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Estonian Paragliding &amp; Paramotoring Assoc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84720" y="37519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3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Ma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2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June 20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95640" y="4399560"/>
            <a:ext cx="38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Location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üri, Esto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443640" y="512640"/>
            <a:ext cx="2016000" cy="1509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11280" y="3860640"/>
            <a:ext cx="2340000" cy="104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020F-D075-48FB-ABB2-5086E514E6A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F75E31A-EE36-4FFC-9008-1BCA1BBFA12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Weathe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,6 m/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rature 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 – 15 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d of May daytime high temperature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n mid Estoni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ten reach 25 C and over. Mean time night temperatures can be quite calm, even below 10 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ch difference may crea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rong thermals in midday, resulting usually in a non-flyable weather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pproximatel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rom 12.00 to 16.00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time of the year Estonia is known by white nights, which means excellent flying conditions early in the morning (from 4.00) and late in the evening (until 22.00)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th utilizing the best flying weather available, it will be possible to provi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quite strange but ver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ble program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stead of exhaustive parawaiting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t midday it is possible to revert day and night - to sleep mainly at daytime and to be effective in competition flying at evenings and early morning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1E10-F7CF-4D24-A57D-80C92C21300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FDB064-363E-44A4-8314-F2539925EAE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Dat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rival, registration, inspection &amp; train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3. – 24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irst competition briefing, opening ceremony &amp; welcome dinner: 25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ompetition flying days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6. May –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Party: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ceremony &amp; Prizegiv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. Septemb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921B-5DB5-4592-96EB-DD534BC0FA8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873238-FA0B-411E-9A18-9B49D48FF22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040360" y="4549680"/>
            <a:ext cx="4103640" cy="230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226A-E535-4610-8C3F-BA8E1EDB273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F29316-0EFA-42B3-920C-2346ED8A459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Official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 D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Ott Maaten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natas Samulenas L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uty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esa Subiceva L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oring Manag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lari Ilves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ef Marshall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are Vanari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ternational Jury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rewards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onitor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ain personnel is selected from the most competent of Baltic States. They all have significant paramotoring background as pilots and/or as organizers and teamleaders at many local and international paramotor competitions in recent yea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00A1-51A1-4EBE-A9FF-61A673146F0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D560DD-C95C-4443-AA28-7E1DA2C0E70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Class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motors: PF1 &amp; PF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trikes: PL1 &amp; PL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B0A9-6BE7-4D21-8CDF-1996B16A4D9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09F6C0-8FC7-41A9-9EF7-ED6D9E8332A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FCD9-BB73-4B84-A85C-562B35D6513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B2CFFD-DF6C-4FD8-AE9B-4A83FDFB9CC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Med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PC Media Service will be established to deal with all media services and public rela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pecial internet site will be set up for online news, information, pictures and videos uploading and shar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Estonian most popular commercial TV channel “Kanal 2”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ll b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whole event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th specia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daily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al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V new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ge will b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rrang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sport’s news of another commercial TV channel TV3 and in State Channel ETV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 radio station “Kuma” will be p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t daily with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liv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s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BNS (Baltic News Service) agency will be provided with news by EPC Media Service dail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Video production will be organized for TV Special &amp; DVD relea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8DD0-6B80-45A1-8F36-35134984BB4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012690-A959-4A4C-AF20-6018DB95E39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pilo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co-pilot (navigator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 for each teamleader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100.- € for assistant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 fee for family and visitors, exept for party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 will be lowered by 50.- if payd before 1. March 2013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etition management (setting, organizing, controlling and evaluating the tasks,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splaying the results, briefings, prizegiving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media coverag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tc.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l competition materials (maps, task description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competition numbers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tc.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ining day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arrangement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(training task management etc.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ee use of the airfield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Free entrance to all official events, including opening and closing ceremonies with corresponding parties and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atherproof overnight storage for aircraft and equipment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vironmental fee (toilets and waste management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BB9A-8BA7-4764-84FE-C2CF7850D4E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0D20A5-86F3-4551-B2CF-A13E7103DC0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0" y="3465360"/>
            <a:ext cx="4572000" cy="3392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340200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35640" cy="3465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4535640" y="0"/>
            <a:ext cx="460836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74FC-F55F-4951-92B8-C9774F3C809E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7D3B46-8C19-49BD-93FE-23B6FFB66E4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7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304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for Accommodation &amp; Catering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/person in double or triple hotel room with TV,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00.- €/person in 4 bed motel room with common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/person for camping (near the hotel) with shower &amp; toilet fascilities nearb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&amp; Catering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from 23.05. to 2.06. with late checkout option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TV, Showers and toilets according to accommodation categor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reless internet co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verage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Use of hotel and motel briefingrooms, meetingrooms, task planning spaces &amp; partyhall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Reasonable use of saunas every evening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Breakfast, lunch and dinner every day, starting from the dinner on 23.05 evening until the breakfast on 2.06. morning, excluding party dinners after the opening and closing ceremonies.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deal is valid also for teamleaders, assistants and family members upon availabilit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7A4B-B5C6-4B81-A681-EC17A222ADC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03DAD8-8D04-4496-9508-FEAC11191C5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928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Index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Venu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D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Offici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Clas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Med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Fe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00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5867280" cy="49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6A1C-4FBD-4E20-AB43-A16FC87C60D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4B3ECA-BC75-44A2-84F4-B38FCCC99AB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464160" y="3429000"/>
            <a:ext cx="2679840" cy="3429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3446640"/>
            <a:ext cx="6443640" cy="3411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71636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C3A9-6991-4E0C-8392-B7F2F01E63FD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910156-F885-4825-90BB-7AC45BD5272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476280"/>
            <a:ext cx="3200400" cy="3049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74320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info@eppa.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84360" y="411336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6EEC-CFEF-4BEF-A5DB-777861F8C5E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8E7630-C889-45CA-9D5E-E8A215C5E2F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6AA5-CE72-4D6E-BDF3-A49A7F6BDE8E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3D0DFC-9016-430D-BDE2-96DA8088944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re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h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 of Estoni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 near small town Türi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tive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ope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scapes with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fe landing option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rved exclusively for EPC 2013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 other flying activities in the are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um of no-flying zone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light restriction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air traffic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ea with 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 population densit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of a small town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Tür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frastructure nearb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(2 k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0D33-4E0B-405C-8A6C-C8F4FCDFE6D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720922-2764-49AB-A2E9-30F584798C1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1600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5400" spc="-1" strike="noStrike">
                <a:solidFill>
                  <a:srgbClr val="000000"/>
                </a:solidFill>
                <a:latin typeface="Tahoma"/>
              </a:rPr>
              <a:t>Venue / Area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2D61-740B-4363-A470-C7DE7D69CCB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277653-E6A4-411A-A5AC-2AAB0D54B49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297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Airfield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24000" y="8730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oordinates: 58°49`06.00"N  25°28`35.00"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640" y="4113360"/>
            <a:ext cx="799308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Elevation: 62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Main field size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0x400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Quality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sh clover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ield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 with no paved airstri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Distance to accommodation: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Nearest town: Türi,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6566-71C6-4AB3-BEA0-FA82D4780D3C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048646-57FC-4FB3-8D5E-1D56FA1A9C4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ccommod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tel “Veskisilla” (meaning “Millbridge”),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l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restored w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mepage: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t-EE" sz="18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www.veskisilla.ee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Location: Türi-Alliku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i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, 1 km from Türi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ide,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100 km 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tu, 10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llin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erved exclusively for EPC 2013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6 places in h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 places in m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limited places for camping with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noug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ers, saunas and toilet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ge catering and party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ll for over 200 people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 sauna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lot of rooms and spaces for briefings and meeting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reless interne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shop suppor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lternative activities for bad weather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1BA2-0E00-44FC-A93B-446520490FE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92F6AF-D28A-445C-B5B3-2ED4168961D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247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92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0245-C16A-464E-BBFB-CA10B3C5FB08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0096B2-9EF6-42D0-9AA9-6BE46C8D6CC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76360" y="404640"/>
            <a:ext cx="7920000" cy="5940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4360" y="5157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2DDA-0C67-4CC8-82AF-FFE8F8E2EB44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D99436-84A8-4112-99EF-496C83435E4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rell</cp:lastModifiedBy>
  <dcterms:modified xsi:type="dcterms:W3CDTF">2011-11-10T15:48:0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